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49563-1F49-49DB-AD63-7E68C4D12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36F66-8449-4EC1-A0DA-23C56E8FF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A83EC-457D-41A6-BB9D-BAF7F4D40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C2C18-2C6A-4858-969B-910679B0A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D3AA2-DD51-4750-B720-F34A15121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78202-20A5-4DCC-9E43-A72268D7D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A6C92-9D35-4568-946E-5D99DA359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3E482-3D7F-46A9-8779-3A3F94DDC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7B4D3-D743-4B66-B43E-D88242BCD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4931B-3F58-479A-AB0A-D8608FD80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B5F19-E0C7-4B01-9D53-F11F11F06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299C4-3154-4676-8CF1-D63A9902E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8568-C3D8-408A-8323-941E80C29A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9280" y="836640"/>
            <a:ext cx="8460000" cy="4413240"/>
          </a:xfrm>
          <a:prstGeom prst="rect">
            <a:avLst/>
          </a:prstGeom>
          <a:ln w="0">
            <a:noFill/>
          </a:ln>
        </p:spPr>
      </p:pic>
      <p:sp>
        <p:nvSpPr>
          <p:cNvPr id="42"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w Cen MT Condensed Extra Bold"/>
              </a:rPr>
              <a:t>El ciclo del agua </a:t>
            </a:r>
            <a:r>
              <a:rPr b="0" lang="en-US" sz="2000" spc="-1" strike="noStrike">
                <a:solidFill>
                  <a:srgbClr val="333399"/>
                </a:solidFill>
                <a:latin typeface="Tw Cen MT Condensed Extra Bold"/>
              </a:rPr>
              <a:t>o ciclo hidrológico</a:t>
            </a:r>
            <a:endParaRPr b="0" lang="en-US" sz="2000" spc="-1" strike="noStrike">
              <a:solidFill>
                <a:srgbClr val="000000"/>
              </a:solidFill>
              <a:latin typeface="Arial"/>
            </a:endParaRPr>
          </a:p>
        </p:txBody>
      </p:sp>
      <p:sp>
        <p:nvSpPr>
          <p:cNvPr id="43" name=""/>
          <p:cNvSpPr/>
          <p:nvPr/>
        </p:nvSpPr>
        <p:spPr>
          <a:xfrm>
            <a:off x="291960" y="5229360"/>
            <a:ext cx="88520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agua existe en la Tierra en tres estados: sólido (hielo, nieve), líquido y gas (vapor de agua). Océanos, ríos, nubes y lluvia están en constante cambio: el agua de la superficie se evapora, el agua de las nubes precipita, la lluvia se filtra por la tierra, etc. Sin embargo, la cantidad total de agua en el planeta no cambia. La circulación y conservación de agua en la Tierra se llama ciclo hidrológico, o ciclo del agua.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9640" y="327600"/>
            <a:ext cx="8240760" cy="5946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iclo hidrológico comienza con la </a:t>
            </a:r>
            <a:r>
              <a:rPr b="1" lang="en-US" sz="2400" spc="-1" strike="noStrike">
                <a:solidFill>
                  <a:srgbClr val="ff0066"/>
                </a:solidFill>
                <a:latin typeface="Arial"/>
              </a:rPr>
              <a:t>evaporación</a:t>
            </a:r>
            <a:r>
              <a:rPr b="0" lang="en-US" sz="2400" spc="-1" strike="noStrike">
                <a:solidFill>
                  <a:srgbClr val="000000"/>
                </a:solidFill>
                <a:latin typeface="Arial"/>
              </a:rPr>
              <a:t> del agua desde la superficie del océano. A medida que se eleva, el aire humedecido se enfría y el vapor se transforma en agua: es la </a:t>
            </a:r>
            <a:r>
              <a:rPr b="1" lang="en-US" sz="2400" spc="-1" strike="noStrike">
                <a:solidFill>
                  <a:srgbClr val="ff0066"/>
                </a:solidFill>
                <a:latin typeface="Arial"/>
              </a:rPr>
              <a:t>condensación</a:t>
            </a:r>
            <a:r>
              <a:rPr b="0" lang="en-US" sz="2400" spc="-1" strike="noStrike">
                <a:solidFill>
                  <a:srgbClr val="000000"/>
                </a:solidFill>
                <a:latin typeface="Arial"/>
              </a:rPr>
              <a:t>. Las gotas se juntan y forman una nube. Luego, caen por su propio peso: es la </a:t>
            </a:r>
            <a:r>
              <a:rPr b="1" lang="en-US" sz="2400" spc="-1" strike="noStrike">
                <a:solidFill>
                  <a:srgbClr val="ff0066"/>
                </a:solidFill>
                <a:latin typeface="Arial"/>
              </a:rPr>
              <a:t>precipitación</a:t>
            </a:r>
            <a:r>
              <a:rPr b="0" lang="en-US" sz="2400" spc="-1" strike="noStrike">
                <a:solidFill>
                  <a:srgbClr val="000000"/>
                </a:solidFill>
                <a:latin typeface="Arial"/>
              </a:rPr>
              <a:t>. Si en la atmósfera hace mucho frío, el agua cae como nieve o granizo. Si es más cálida, caerán gotas de lluv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parte del agua que llega a la tierra será aprovechada por los seres vivos; otra escurrirá por el terreno hasta llegar a un río, un lago o el océano. A este fenómeno se le conoce como </a:t>
            </a:r>
            <a:r>
              <a:rPr b="1" lang="en-US" sz="2400" spc="-1" strike="noStrike">
                <a:solidFill>
                  <a:srgbClr val="ff0066"/>
                </a:solidFill>
                <a:latin typeface="Arial"/>
              </a:rPr>
              <a:t>escorrentía</a:t>
            </a:r>
            <a:r>
              <a:rPr b="0" lang="en-US" sz="2400" spc="-1" strike="noStrike">
                <a:solidFill>
                  <a:srgbClr val="000000"/>
                </a:solidFill>
                <a:latin typeface="Arial"/>
              </a:rPr>
              <a:t>. Otro poco del agua se filtrará a través del suelo, formando capas de agua subterránea. Este proceso es la percolación o </a:t>
            </a:r>
            <a:r>
              <a:rPr b="1" lang="en-US" sz="2400" spc="-1" strike="noStrike">
                <a:solidFill>
                  <a:srgbClr val="ff0066"/>
                </a:solidFill>
                <a:latin typeface="Arial"/>
              </a:rPr>
              <a:t>infiltración</a:t>
            </a:r>
            <a:r>
              <a:rPr b="0" lang="en-US" sz="2400" spc="-1" strike="noStrike">
                <a:solidFill>
                  <a:srgbClr val="000000"/>
                </a:solidFill>
                <a:latin typeface="Arial"/>
              </a:rPr>
              <a:t>. Más tarde o más temprano, toda esta agua volverá nuevamente a la atmósfera, debido principalmente a la evaporación.</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9640" y="399960"/>
            <a:ext cx="79218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evaporarse, el agua deja atrás todos los elementos que la contaminan o la hacen no apta para beber (sales minerales, químicos, desechos). Por eso el ciclo del agua nos entrega una sustancia casi pura. Pero hay otro proceso que también purifica el agua, y es parte del ciclo: la </a:t>
            </a:r>
            <a:r>
              <a:rPr b="1" lang="en-US" sz="2400" spc="-1" strike="noStrike">
                <a:solidFill>
                  <a:srgbClr val="ff0066"/>
                </a:solidFill>
                <a:latin typeface="Arial"/>
              </a:rPr>
              <a:t>transpiración</a:t>
            </a:r>
            <a:r>
              <a:rPr b="0" lang="en-US" sz="2400" spc="-1" strike="noStrike">
                <a:solidFill>
                  <a:srgbClr val="000000"/>
                </a:solidFill>
                <a:latin typeface="Arial"/>
              </a:rPr>
              <a:t> de las plantas: las raíces de las plantas absorben el agua, la cual se desplaza hacia arriba a través de los tallos o troncos, movilizando consigo a los elementos que necesita la planta para nutrirse. Al llegar a las hojas y flores, se evapora hacia el aire en forma de vapor de agua. Este fenómeno es la transpiración.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4T20:59:39Z</dcterms:created>
  <dc:creator>euyin</dc:creator>
  <dc:description/>
  <dc:language>en-US</dc:language>
  <cp:lastModifiedBy>Eugenio</cp:lastModifiedBy>
  <dcterms:modified xsi:type="dcterms:W3CDTF">2009-12-26T19:08:11Z</dcterms:modified>
  <cp:revision>410</cp:revision>
  <dc:subject/>
  <dc:title>Diapositiva 1</dc:title>
</cp:coreProperties>
</file>